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F5F-EC65-410C-9EA5-DCE4C621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C81-C553-4DDD-854C-F120D057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E2869-1512-42EA-90B2-9F32AE64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699FA-96A3-418F-AA64-F8974F1F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87774-7C82-4A51-BD60-5B4527F2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4EDB1-08CC-4D7D-B7F9-928E55ED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61859-CCEB-4669-A813-A136BF1E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5C59A-1DFF-47BE-B507-B3C6CA9F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D2D1B-26C2-4E20-B12E-C64797B4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B5643-4604-479A-A145-60B19007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3F32C-77FE-45BE-87A5-475DAB68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A2B6D9-CEB9-42FD-AECB-260CDD94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E58-A396-49FB-906A-E86C9A71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7E6C8D-B0B7-41BF-9444-36FEF6A6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B82757-8C74-4FFB-8DFF-65DCAB3D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8D25C7-5E5C-4947-9C65-7FD7AA32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116008-8C01-4D6C-9D06-717B026D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01EAE8-CB61-4210-AEFD-5C17F7C6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0E03CD-75AA-4DF4-B39C-ED7834E4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079966-0154-45AC-AEBC-18D14025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CDA9BD-AC3A-4F14-AC38-CA66439F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14711E-A102-4752-A62F-4A0356CC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4E89A6-7A4C-41C7-9F32-346378F3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145-A1AC-49CF-9C43-2D46BF49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239AEF-DFAF-4FC4-A0C6-474C1D38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9BD16-9448-45A8-AC92-AEE063A0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19C64-41A4-4016-AA9F-DF90F1BF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A2D71-46DC-4D20-BC2C-E067E98E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03AF5-5C5E-4FC3-B139-13C73B2A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266E8-1707-43AB-A7E7-D1A09400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4B4CA-297E-4E30-B6E3-5B9E68BA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5919A-C7C7-45E3-A951-96007D40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A3CF3-623E-4E4E-A4E8-1F9B0737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490EF-A0C9-42EE-864D-ACD328BD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08F7-4E6D-43E6-9962-B95BE1AA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79B8C-61F5-41E2-A872-F5482E33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C9897-290F-41D5-8458-0074BDFB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C5444-D56C-4DE6-B6FF-24E1E15B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F1905-7F5A-49D4-89DA-4740111E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CB4CE-C27D-4836-AEAC-6E2EFAEC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6B95F-912D-4502-90C2-46841CF8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68D4A-0D52-41DF-8AEE-1B8EA086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1B091-DD9B-4D77-8226-791E5969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2EEB5-17F8-4635-8427-3CD542DA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2B249-8E96-462A-9BFF-786AB52D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51A7-EF85-40DA-96CA-79FEE889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82680-CF1A-4E1B-9F52-04C02D15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B7C3D-EEC8-4F95-AD1E-C4FC475A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B4A4F-A097-4B64-A218-9744D94A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6748C-3ADA-4E25-8943-E7774FBC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AAB09-76A9-4698-9289-446670F8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5246C-3655-4A10-AA65-507C2862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5E26C-64F5-47EF-AA6B-D3574A78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0D392-5008-48B5-82D7-00B9926C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0A4B6-0E69-4507-ADD5-331D6C92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B361A-4DB7-4479-A952-2668372D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6FA3-9BF9-42BF-95F6-37C94B9E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87F84-8C67-460C-A2A6-06C0BE16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A47E9-809D-4D4F-8639-D9FEAD61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4080C4-84B7-405E-93ED-E3CC9AB9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48AA7-C062-4BD0-89DD-E7C2858C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1265D-4687-4E56-8586-C6FAA18E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EDB4B-44C5-42AC-AB74-070D6C2F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BC9752-5C87-433E-A34D-1BB81381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B11F0-E699-41D4-A090-C72142E3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DDDDE-177A-40FE-A688-DE8E4A34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83390A-8397-4E0B-800A-2D0D80B1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F133-CB30-4A56-8FD9-1F653008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572DC7-A22D-48EF-8417-E90151BC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A0785C-86E5-4F75-8FFF-816EEC88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55819B-519E-4BE7-825C-CDB662F6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9AA538-6FEB-49FA-89C0-C5FE1CF9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21CA4-D534-48DF-90A0-5624A728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4F8FBD-085E-4155-9535-7458359F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74CC7D-7B81-42E7-80CE-F48C0BAE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C9264C-ED88-4E79-874F-37551985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5BAE6-022E-4E14-BDE6-C923E338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31C70B-6774-48CB-BA74-76441017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1B10-D1E1-4FC9-B491-AB809221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9DD068-0630-4CF9-B377-0D2B69D9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7C40D8-79FC-422E-AC7B-798FEE19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2C4EFB-EA00-4AF0-87AB-101FA0C0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4A73C8-DF02-4C77-9E96-A8C09AFC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CE8486-9ECC-429C-A194-6EE93826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C7C5B1-1C4A-4574-B1FA-FDD2C493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CFD1783-C661-4AA4-A791-B2F40269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6ACC1E6-2AAE-4A45-8FB2-2C738C75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527482B-B3CE-4F8F-9E25-47CF29C2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1A11A0-2D1A-40D0-9F50-0AB09146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CAB0-4286-407D-994D-C2839E01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2CF03F-8065-4603-A415-A61F996C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CABC01-6E2A-47E6-BC03-D7CBA159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80D356-0968-4414-87E6-6113EE7A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D54050-9CB2-499D-847A-7808E8A8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CC4960-B97F-4A57-8C73-7817C61B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C38118-5242-4FB8-AF01-D1B48812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592C13-AF33-44FD-9F01-392C2016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BB34FB-C591-4267-9809-66BB9DE2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D73DC1-2F8C-4B50-9E9C-1F8BF59B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080ECC-5209-41BB-8AE4-214045FC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0425-2F9A-499A-BCD2-DF55CE88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9FDF03-97FD-4FBF-A338-98F32573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EE2A7C-B1D0-473A-AEB6-5BD85096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9092C7-8BA1-473D-A96A-17629A8C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520CBF-5806-4A28-A740-2D32634C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F7242A-52F5-47EF-B4AB-E92B1714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0A7F97-0227-41D5-A668-3C2AD223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1C5566-D6C4-433A-B56D-ED99A360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4238DE-B4FB-400E-96EC-B045CE22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58A603-C5BC-4F9C-811E-3B4DBD81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BB589B-7244-478A-AAE8-E62E84CA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FAA-47E2-415A-88D7-F8254BD9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9263-4E7B-47EC-BAC3-52EBFD8E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0DDB98-5533-4F22-9F74-936A86CF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17CB9C-2FB1-4004-995F-8422E4D4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2E0889-F28E-4D20-A22A-46A8EDE5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A5F098-A9AF-4DED-8628-DCCB1F41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B403ED-9C8B-42B5-9701-E482937C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02B0A4-1398-4FF8-A418-1C575083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E9585C-2988-4672-BDF3-425CDDF8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FAA075-23AB-495B-AE68-95B79C92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171B80-A19F-4C98-91E2-432B92C9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C162ED-E573-48F7-9D50-375E2AE7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1C8B-BA3E-4323-A0DC-D3CFCBE8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1A0349-6D74-4643-9FDD-30234CE8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A0E095-FD09-4602-89A2-20B5074B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CCFB32-2332-477E-8ADF-5156322A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D0264A-E0CA-497D-BDDF-6EF008D4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CFBB8B-EEDF-420D-B10F-DDC1775F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12F9EA-3030-48F5-8E98-E7F2978D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F1D06F-5FC9-4C3C-B81C-617C9914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5B726D-947B-4062-B773-1FF9CEBC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764096-8E6F-4B20-9D2F-279564C6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1070DD-19FA-46B8-BA3C-EC698A56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FEC2-6A5A-46E3-A502-64636884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926B79-F9CA-4801-81D9-D55C505C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C6DBDC-5153-402E-8788-0E6D6C11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EA17CD-AC6C-40A0-8529-F14602A9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3A7152-BBB5-4CF8-9062-1B63B8D6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66CD5F-2163-43C3-8EC6-A1B39431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32A2FC-6243-4EBD-8AF9-F0295A2A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EF8A53-79FF-4E13-AA47-DDE7D534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DA4566-581C-4336-AB9B-ECE2339C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FBE3B4-B9B6-4B74-823D-09C1CD0B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6936AF-05D2-4CE4-B873-AFC03612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EA62-7BE1-4C3D-981D-8136D075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456959-36BE-4E1A-A783-D199AC97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5D86BD-A652-4CBF-BD96-D82A564E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53AA7C-BCCF-4850-9063-22F5D4F4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903816-6DEF-4B96-B747-833A21C4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780CCB-A2B7-46B7-B58D-18F1763F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EE5207-7D70-4E1A-968D-ED91C0A0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7656D6-BC00-4CCD-8B2E-1F9F9E3B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E596BE-D6CB-4F7E-BF41-3D352C0A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414779-89A6-44E2-8C6D-0A7D0C2F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1B3387-AC87-4756-8CC1-DC39AA10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DCDB-1A10-47AD-AC7F-4A5B9DA9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A6B9DB-D526-451E-AD90-2847D71A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E9119-A73F-4211-8B8B-5BA05224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82B3E-EE70-4339-B91C-74B5556C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881A0-5BB8-448F-9E20-D66AB029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4D78B-6D51-41B6-9899-DA056F59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BC346-CD11-4C95-A304-C03269B2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914-F955-4225-928A-03F6AE5B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5B59B-4E09-4B05-9398-956E4714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574A5-F3BA-4A8A-A570-CC2ED1E3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33B64-47F7-46A5-974E-BF423756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081C0-6613-41A7-8548-57890B3B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9726B-1F28-4889-BD00-AE299993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65502-C4F0-4264-90BE-D0282BFC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107A1-4DAE-474A-9DDD-5D47CCA5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5BD3C-9071-4152-834C-970203C8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AD46B-12D7-4A45-BC78-2AEE9BB1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FC19D-4C4F-4059-9F56-AE21AAC0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F50-1329-4C3E-AEEA-6E45989D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C9656-46C1-4CFF-8AC6-B4C3AA8E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9EA11-3994-4205-B6C1-A385E3D6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BF6CB-BE38-48DF-BB2E-240118B6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3E981-7DC1-47E1-8473-F9DC06F1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334B8-F843-442C-947C-21E51202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09339-8BEC-43E1-A91B-8BCA4FFB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35BD4-20A7-4B20-B31E-27F9822C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27522-CB47-4776-ADA3-28846C05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54A32-A8E3-46F1-B504-961EC128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EEA1E-96AF-4376-B511-4DE6B8CD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5A8-3E38-42C8-B50B-C5342A6E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A7CC0-9405-43DD-954C-1AA7447E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E9E63-9E04-4EA3-9143-AC059247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95ED4-75C7-4233-831D-CC8EA756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1D5F8-2671-4418-83AD-2EFB04FC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3D7F1-8BCA-4B50-9AC5-EDFE190A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F19C8-8409-43B4-9ADB-83DDA87E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CF5E5-57F8-48CB-BE8D-BD129729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DD352-D69A-4B80-8CC5-99B8B4F1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09110-A428-4A3F-B5B3-45D2D595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46CF4-B5EA-46F5-9605-FA85F0DA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6FB4-A30B-406F-AE0F-0C0E5525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FB3A5-109C-439B-8A60-A5AD79F2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7902C8-0C21-4492-B3C8-B3EE17CD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06BA3A-5D75-443B-80C1-F9DBA30A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F2488-40D5-42FA-8A8A-D600396C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6563D9-B9FB-4E26-8D59-64C305CF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9AE62F-1E9D-405B-B742-DF46E826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E9F252-7F2D-4DE5-8EA9-57DE7093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3AA4B6-3F55-4E21-B293-AF600728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48B7E8-6959-4B1C-9729-626C2E60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65102D-F271-4037-B20A-3575B559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0B51-7F7D-4CD3-AABA-B762DA2D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968F7E-38DA-4984-BD5C-E68C3364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81680-A1D8-4863-A33E-D560ACBA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EABB87-B7D2-4E4B-AB98-A4E292D0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978A4-EBC1-4AB0-B77A-48F2813E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825EF-AA2B-4110-A2F8-59B8C42B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BB210-03CA-4D7F-A637-29CD6C78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C1E33-765B-405F-8697-62D8AC65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AB5F1-8E3B-44C7-8C32-E5CF07A4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5E161-38FC-4F95-B499-02DA3505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D74AD-6E55-4B9F-A51B-775686E9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CB8-CA6E-4709-BD57-FA2E4633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DA9DE-BBE9-4E7C-8179-92FB0069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5A6BA-FD3F-4011-8C43-64848265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2B6CE-90E1-483B-9A4D-454E3308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5EAAF-5C20-4E29-8C98-1CDB45DF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FC715-EB69-4EC7-BD9C-3C7786AB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40CC9-278B-491F-A6B6-F4F5C4F7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379C2-E34C-4188-A66C-D9F93727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939A2-85D2-4151-8DD9-29EDA06C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3DAC9-87F3-4A0C-842E-AF4ECD1F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5715E-CB08-49C5-A59F-27DACFF2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8732-B099-4662-BE86-63F7D801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7A471-9C41-4692-B807-867C3AEB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29CF0-5669-4401-BB47-BB785D58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92357-3443-46EB-88F2-FEE5D01C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37431-E12D-46F6-876C-EDA38BBB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C813F-8A56-421A-9E3E-455CB406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A03C9-1279-4E23-A8B9-B8FE4598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D0B7D-40F1-4AD5-9235-0871A49F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A13B9-88D3-495A-B955-42ADFB06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48BAC-EA23-4B11-9D3E-21B34082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3413B-DCD4-4754-8040-3730678D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57.xml"/><Relationship Id="rId32" Type="http://schemas.openxmlformats.org/officeDocument/2006/relationships/slideLayout" Target="../slideLayouts/slideLayout158.xml"/><Relationship Id="rId33" Type="http://schemas.openxmlformats.org/officeDocument/2006/relationships/slideLayout" Target="../slideLayouts/slideLayout159.xml"/><Relationship Id="rId34" Type="http://schemas.openxmlformats.org/officeDocument/2006/relationships/slideLayout" Target="../slideLayouts/slideLayout160.xml"/><Relationship Id="rId35" Type="http://schemas.openxmlformats.org/officeDocument/2006/relationships/slideLayout" Target="../slideLayouts/slideLayout161.xml"/><Relationship Id="rId36" Type="http://schemas.openxmlformats.org/officeDocument/2006/relationships/slideLayout" Target="../slideLayouts/slideLayout162.xml"/><Relationship Id="rId37" Type="http://schemas.openxmlformats.org/officeDocument/2006/relationships/slideLayout" Target="../slideLayouts/slideLayout163.xml"/><Relationship Id="rId38" Type="http://schemas.openxmlformats.org/officeDocument/2006/relationships/slideLayout" Target="../slideLayouts/slideLayout164.xml"/><Relationship Id="rId39" Type="http://schemas.openxmlformats.org/officeDocument/2006/relationships/slideLayout" Target="../slideLayouts/slideLayout165.xml"/><Relationship Id="rId40" Type="http://schemas.openxmlformats.org/officeDocument/2006/relationships/slideLayout" Target="../slideLayouts/slideLayout166.xml"/><Relationship Id="rId41" Type="http://schemas.openxmlformats.org/officeDocument/2006/relationships/slideLayout" Target="../slideLayouts/slideLayout167.xml"/><Relationship Id="rId4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AB5A-DEB3-4292-A165-3A8C6C5CA1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0814-3812-47A6-AED0-9DD355CD1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80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80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02F1-63C9-47B3-A4FB-8EBDD8A6F4D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8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8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8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ftr" idx="3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E256-CC54-4FF1-9720-BD33E99A5B8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0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1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1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1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1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2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3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93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5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AEE2-9370-4C57-88A8-9DDEE8A6E1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0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0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1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1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1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2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2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4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FFC1-8616-4B98-ABB2-4529706CAE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1"/>
    <p:sldLayoutId id="2147483819" r:id="rId32"/>
    <p:sldLayoutId id="2147483820" r:id="rId33"/>
    <p:sldLayoutId id="2147483821" r:id="rId34"/>
    <p:sldLayoutId id="2147483822" r:id="rId35"/>
    <p:sldLayoutId id="2147483823" r:id="rId36"/>
    <p:sldLayoutId id="2147483824" r:id="rId37"/>
    <p:sldLayoutId id="2147483825" r:id="rId38"/>
    <p:sldLayoutId id="2147483826" r:id="rId39"/>
    <p:sldLayoutId id="2147483827" r:id="rId40"/>
    <p:sldLayoutId id="2147483828" r:id="rId41"/>
    <p:sldLayoutId id="2147483829" r:id="rId4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10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0D2D-1CC9-4F68-B650-FB271C3F52F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 type="dt" idx="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16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F962-81DE-48DF-A7D5-9E5021C2941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4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225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FD65-D3A3-4179-8CC0-4C7F039E1E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272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AF1B-7DD3-40F2-B9EB-CFA840B240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319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2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5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5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F5FC-6DBB-4EB0-B1F0-AC6FBAC66F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72BA-E35A-489F-93F7-6BAF6DC6BB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63" name="PlaceHolder 1"/>
          <p:cNvSpPr>
            <a:spLocks noGrp="1"/>
          </p:cNvSpPr>
          <p:nvPr>
            <p:ph type="dt" idx="5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 type="sldNum" idx="6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60FC-00F5-4053-BEC7-0F7D817CE0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5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0575-990C-444A-9868-8D437D111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0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5D24-C7C8-4E83-B3FD-0C05A0263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5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5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5CFF-5DCF-48C7-8EA9-E129148125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1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1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1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2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5A0F-7365-4D65-9484-C97873DF9D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7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7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7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7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8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7259-F2A8-41B8-A18B-56CDF9C1104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4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4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5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5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6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6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7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7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8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8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8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8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9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9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9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0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0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0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1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1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1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5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6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BD00-E3A8-4C6B-A0B2-AB41B4009DF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6C2D-3E74-4B2F-8E54-4CE78D3FD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ELLİ  KURU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HAN KE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52E9CA-5F60-4729-8F7F-41810F99032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 Black"/>
              </a:rPr>
              <a:t>ELLİ  KURUŞ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Black"/>
              </a:rPr>
              <a:t>TEMA: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OKAKTAKİ İNSANIN YAŞADIĞI GEÇİM SIKINTISI ANLATILIYOR.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B0542-B9BC-47D3-9AE6-EC676A6DEB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1000"/>
                                        <p:tgtEl>
                                          <p:spTgt spid="1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ONUÇ OLARAK;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EDEBİ METİNLER KENDİLERİNDEN ÖNCEKİ ESERLERDEN DİL,ANLATIM, TEMA VE ZİHNİYET AÇISINDAN ETKİLENEBİLİRLER.BUNA AYNI ZAMANDA  “EDEBİ BİRİKİM” DE DENİ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EBİ BİRİKİM NE KADAR ZENGİNSE O EDEBİYAT DA O KADAR ZENGİNDİ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ÖRNEĞİN,TANZİMAT EDEBİYATI DÖNEMİNDE HİKAYECİLİKTE BATI ED. ÖRNEK ALINMIŞ. NEDEN?ÇÜNKÜ HİKAYE ALANINDA YETERLİ BİRİKİM YO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94D-8CEE-4DBF-AFDE-431FD242E2A9}" type="slidenum">
              <a:t>11</a:t>
            </a:fld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HAN KEMAL HER İKİ ÖYKÜSÜNDE DE GEÇİM SIKINTISI KONULARINI ELE ALMIŞT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AZARIMIZ, “TOPLUMSAL GERÇEKLİK” GELENEĞİNE BAĞLI BİRİDİ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LUMSAL GERÇEKLİK:1940’LI YILLARDAN SONRA ORTAYA ÇIKAN TOPLUMUN İÇİNDE BULUNDUĞU DURUMU BÜTÜN ÇIPLAKLIĞIYLA GÖZLER ÖNÜNE SEREN BİR EDEBİ AKIM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94EF7-C51D-45F6-A2FA-05321C831A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BİR METNİ DOĞRU DEĞERLENDİREBİLMEK İÇİN YAZARIN BAĞLI OLDUĞU GELENEĞİ VE BU GELENEKLE İLGİLİ YETERLİ BİLGİYİ BİLMESİ GEREKİ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BU BİLGİLER BİLİNMEDİĞİ ZAMAN ESER, YA YANLIŞ YADA EKSİK YORUMLAN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0A5C6-E8F7-483F-966F-1E25EA0002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-EKONOMİK SIKINTILAR YAŞANDIĞI,HAYAT ŞARTLARININ ZOR OLDUĞU VE ÇOCUKLARIN BİLE ÇALIŞMAK ZORUNDA KALDIKLARI BİR DÖNEMDEN BAHSEDİLİY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 KONU 1940-1970 YILLARI ARASI HİKAYEDE İŞLENEN “HALKIN GEÇİM SIKINTISI” KONUSU YANSITMAKTA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079E73-E87D-414B-A550-13D4B70C2D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GÜĞÜ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DİL ÖZELLİKLERİ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OĞAL,GÜNDELİK HAYATTA KULLANILAN DİLDEN FARKLI OLARAK EDEBİ BİR DİL KULLANILMIŞTIR.BU DİL YAN VE MECAZ ANLAMLAR TAŞIMAKTADI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4D8083-A518-41D9-8E07-8EC172DA3D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ELLİ  KURU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DİL ÖZELLİKLERİ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OĞAL,GÜNDELİK HAYATTA KULLANILAN DİLDEN FARKLI OLARAK EDEBİ BİR DİL KULLANILMIŞTIR.BU DİL YAN VE MECAZ ANLAMLAR TAŞIMAKTADI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12AC-EE47-4802-A1B3-368DADBAE736}" type="slidenum">
              <a:t>4</a:t>
            </a:fld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f1311"/>
                </a:solidFill>
                <a:latin typeface="Arial"/>
              </a:rPr>
              <a:t>GÜĞÜM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LATIM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KAHRAMAN ANLATICI BAKIŞ AÇISI VARDIR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KAHRAMAN ANLATICI,YAPTIĞI TASVİR VE TAHLİLLERLE DİLE YENİ DEĞER VE ANLAMLAR YÜKLEMİŞTİR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BBCCDB-711B-49DE-99A0-B52503F460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1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ELLİ  KURU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LATIM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HRAMAN ANLATICI BAKIŞ AÇISI VARDI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HRAMAN ANLATICI,YAPTIĞI TASVİR VE TAHLİLLERLE DİLE YENİ DEĞER VE ANLAMLAR YÜKLEMİŞTİ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46CC-1B8D-4E3B-B493-9586E2ED4A40}" type="slidenum">
              <a:t>6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GÜĞÜ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ZİHNİYE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ŞULUK İLİŞKİLERİNİN İYİ OLDUĞU,VAPUR YOLCULUKLARININ VAZGEÇİLMEZ OLDUĞU, HALAT ARABACILARININ VE SOKAK SALEPÇİLERİNİN OLDUĞU BİR DÖNEM ANLATILIYO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9D7F3-0966-4570-98C1-E2123B9FDD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ELLİ  KURU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ZİHNİYE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LUMSAL VE EKONOMİK HAYATIN NHİÇ DE İYİ OLMADIĞI BİR DÖNEMDEN BAHSEDİLİYO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A7F6-E24E-44D8-91FB-FEB4FB712F0C}" type="slidenum">
              <a:t>8</a:t>
            </a:fld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1000"/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1000"/>
                                        <p:tgtEl>
                                          <p:spTgt spid="1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GÜĞÜ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Tahoma"/>
              </a:rPr>
              <a:t>TEMA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HRAMAN ANLATICININ HAYATINDAN BELLİ BİR BÖLÜM ALINAN HİKAYEDE KAHRAMANI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GEÇMİŞE ÖZLEM VE HAYATI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ANLATILIYO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2A2F4-0902-4383-8430-9E4A92F8D7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1000"/>
                                        <p:tgtEl>
                                          <p:spTgt spid="1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 PC</cp:lastModifiedBy>
  <dcterms:modified xsi:type="dcterms:W3CDTF">2009-04-24T19:49:1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